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bmsfx3.wav" ContentType="audio/x-wav"/>
  <Override PartName="/ppt/media/bmwon.wav" ContentType="audio/x-wav"/>
  <Override PartName="/ppt/media/bmfinal.wav" ContentType="audio/x-wav"/>
  <Override PartName="/ppt/media/image1.wmf" ContentType="image/x-wmf"/>
  <Override PartName="/ppt/media/wbmsfx5.wav" ContentType="audio/x-wav"/>
  <Override PartName="/ppt/media/image2.wmf" ContentType="image/x-wmf"/>
  <Override PartName="/ppt/media/wbmsfx7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E543-48E8-4FE5-BFBD-88F57875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38C7-E325-4A04-8BDE-3AAA281A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F3AB-3F51-4082-91C4-926D6D75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1D51-62D4-4E0B-AE4E-3786DE08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7986-609E-4930-B892-B46CF90C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B8C7-A1F9-40D2-89BE-DF5895FD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3749-2BD1-4958-ACC3-7FCC51BC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D669-E561-46A2-B8AA-0001D464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E33F-06F9-42F3-AF32-77E67DD8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6A17-7C0E-4B2B-BE83-804B5BA7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70EC-7A6D-4C7E-B36A-ECFB7E21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C8EB-C2C9-400C-B19E-82474A73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C266-53B7-45FC-A5D2-3D9DAEFBF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bmsfx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2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4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6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8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1.wmf"/><Relationship Id="rId6" Type="http://schemas.openxmlformats.org/officeDocument/2006/relationships/slide" Target="slide20.xml"/><Relationship Id="rId7" Type="http://schemas.openxmlformats.org/officeDocument/2006/relationships/slide" Target="slide5.xm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" Target="slide35.xml"/><Relationship Id="rId4" Type="http://schemas.openxmlformats.org/officeDocument/2006/relationships/slide" Target="slide33.xml"/><Relationship Id="rId5" Type="http://schemas.openxmlformats.org/officeDocument/2006/relationships/slide" Target="slide31.xml"/><Relationship Id="rId6" Type="http://schemas.openxmlformats.org/officeDocument/2006/relationships/slide" Target="slide29.xml"/><Relationship Id="rId7" Type="http://schemas.openxmlformats.org/officeDocument/2006/relationships/slide" Target="slide27.xml"/><Relationship Id="rId8" Type="http://schemas.openxmlformats.org/officeDocument/2006/relationships/slide" Target="slide25.xml"/><Relationship Id="rId9" Type="http://schemas.openxmlformats.org/officeDocument/2006/relationships/slide" Target="slide23.xml"/><Relationship Id="rId10" Type="http://schemas.openxmlformats.org/officeDocument/2006/relationships/slide" Target="slide21.xml"/><Relationship Id="rId11" Type="http://schemas.openxmlformats.org/officeDocument/2006/relationships/slide" Target="slide19.xml"/><Relationship Id="rId12" Type="http://schemas.openxmlformats.org/officeDocument/2006/relationships/slide" Target="slide17.xml"/><Relationship Id="rId13" Type="http://schemas.openxmlformats.org/officeDocument/2006/relationships/slide" Target="slide15.xml"/><Relationship Id="rId14" Type="http://schemas.openxmlformats.org/officeDocument/2006/relationships/slide" Target="slide13.xml"/><Relationship Id="rId15" Type="http://schemas.openxmlformats.org/officeDocument/2006/relationships/slide" Target="slide11.xml"/><Relationship Id="rId16" Type="http://schemas.openxmlformats.org/officeDocument/2006/relationships/slide" Target="slide9.xm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2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4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6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8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1.wmf"/><Relationship Id="rId6" Type="http://schemas.openxmlformats.org/officeDocument/2006/relationships/slide" Target="slide30.xml"/><Relationship Id="rId7" Type="http://schemas.openxmlformats.org/officeDocument/2006/relationships/slide" Target="slide5.xm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bmsfx7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image" Target="../media/image1.wmf"/><Relationship Id="rId4" Type="http://schemas.openxmlformats.org/officeDocument/2006/relationships/slide" Target="slide5.xm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32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34.xml"/><Relationship Id="rId4" Type="http://schemas.openxmlformats.org/officeDocument/2006/relationships/slide" Target="slide5.xm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36.xml"/><Relationship Id="rId4" Type="http://schemas.openxmlformats.org/officeDocument/2006/relationships/slide" Target="slide5.xm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bmsfx7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bmsfx5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mwon.wav"/><Relationship Id="rId2" Type="http://schemas.openxmlformats.org/officeDocument/2006/relationships/audio" Target="../media/wbmsfx3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wbmsfx3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mfinal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0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304920"/>
            <a:ext cx="81532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t's Play . . .</a:t>
            </a:r>
            <a:endParaRPr b="0" i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3657600"/>
            <a:ext cx="80010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ho Wants To Be</a:t>
            </a:r>
            <a:endParaRPr b="0" i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 Millionaire Student?</a:t>
            </a:r>
            <a:endParaRPr b="0" i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krakers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ffrag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urna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bill that originates from the people rather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slators is known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e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eferend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init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amend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which of the following places did 146 female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e in a fi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e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initi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mid 1800s, the majority of w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held jobs worked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a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ephone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mid 1800s, the majority of wo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held jobs worked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a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irst person to use the presidency as a “b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lpit”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osev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cKin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irst person to use the presidency as a “b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lpit”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osev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cKin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aw that required truthful labels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kins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at Inspection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pburn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re Food and Dr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law that required truthful labels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at Inspection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re Food and Dr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rimary goal of the NAACP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quality am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ffrage for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ter 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iness re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21932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89548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80060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228600"/>
            <a:ext cx="3200400" cy="6400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2362320"/>
            <a:ext cx="0" cy="533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4038480"/>
            <a:ext cx="0" cy="762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175248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350532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541008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5238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47920" y="3048120"/>
            <a:ext cx="925560" cy="900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47920" y="4867200"/>
            <a:ext cx="990360" cy="97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00600" y="0"/>
            <a:ext cx="3429000" cy="695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$ 1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$ 5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$ 25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$ 12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$ 6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$ 3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$ 16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0" action="ppaction://hlinksldjump"/>
              </a:rPr>
              <a:t>$ 8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1" action="ppaction://hlinksldjump"/>
              </a:rPr>
              <a:t>$ 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2" action="ppaction://hlinksldjump"/>
              </a:rPr>
              <a:t>$ 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3" action="ppaction://hlinksldjump"/>
              </a:rPr>
              <a:t>$ 1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4" action="ppaction://hlinksldjump"/>
              </a:rPr>
              <a:t>$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5" action="ppaction://hlinksldjump"/>
              </a:rPr>
              <a:t>$ 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6" action="ppaction://hlinksldjump"/>
              </a:rPr>
              <a:t>$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rimary goal of the NAACP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quality am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ffrage for w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8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wa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 result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 of the assembly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er wor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rn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duced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er w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8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wa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 result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 of the assembly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er w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6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gained the most from the ratification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eenth Amend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tical bo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 legis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strial l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dinary citiz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6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gained the most from the ratification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eenth Amend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 legis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dinary citiz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3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statement best characterizes Roosevelt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on on trus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usts were 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trusts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rm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usts benefi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rusts sh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3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statement best characterizes Roosevelt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on on trus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trusts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rm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rusts sh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6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statement best characterizes Pinchot to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d conserv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restricted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s accep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ulti-use 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m wa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vatization shou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 prohib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dustrial expa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ould be the pri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6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statement best characterizes Pinchot to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d conserv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restricted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s accep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ulti-use 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gram wa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25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Presidential election of 1912 the candi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idered least pleasing to reformers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osev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09480"/>
            <a:ext cx="7696080" cy="3200400"/>
          </a:xfrm>
          <a:prstGeom prst="roundRect">
            <a:avLst>
              <a:gd name="adj" fmla="val 1716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2560" y="990720"/>
            <a:ext cx="72388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rry, that is not correc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 you for play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4648320"/>
            <a:ext cx="1066680" cy="11430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143000"/>
              <a:gd name="textAreaBottom" fmla="*/ 1073880 h 1143000"/>
            </a:gdLst>
            <a:ahLst/>
            <a:rect l="textAreaLeft" t="textAreaTop" r="textAreaRight" b="textAreaBottom"/>
            <a:pathLst>
              <a:path w="21600" h="23145">
                <a:moveTo>
                  <a:pt x="0" y="0"/>
                </a:moveTo>
                <a:lnTo>
                  <a:pt x="21600" y="0"/>
                </a:lnTo>
                <a:lnTo>
                  <a:pt x="21600" y="23145"/>
                </a:lnTo>
                <a:lnTo>
                  <a:pt x="0" y="23145"/>
                </a:lnTo>
                <a:close/>
              </a:path>
              <a:path fill="lightenLess" w="21600" h="23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5">
                <a:moveTo>
                  <a:pt x="21600" y="0"/>
                </a:moveTo>
                <a:lnTo>
                  <a:pt x="21600" y="23145"/>
                </a:lnTo>
                <a:lnTo>
                  <a:pt x="20200" y="21745"/>
                </a:lnTo>
                <a:lnTo>
                  <a:pt x="20200" y="1400"/>
                </a:lnTo>
                <a:close/>
              </a:path>
              <a:path fill="darkenLess" w="21600" h="23145">
                <a:moveTo>
                  <a:pt x="21600" y="23145"/>
                </a:moveTo>
                <a:lnTo>
                  <a:pt x="0" y="23145"/>
                </a:lnTo>
                <a:lnTo>
                  <a:pt x="1400" y="21745"/>
                </a:lnTo>
                <a:lnTo>
                  <a:pt x="20200" y="21745"/>
                </a:lnTo>
                <a:close/>
              </a:path>
              <a:path fill="lighten" w="21600" h="23145">
                <a:moveTo>
                  <a:pt x="0" y="23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5"/>
                </a:lnTo>
                <a:close/>
              </a:path>
              <a:path fill="darken" w="21600" h="23145">
                <a:moveTo>
                  <a:pt x="3794" y="8265"/>
                </a:moveTo>
                <a:lnTo>
                  <a:pt x="7301" y="8265"/>
                </a:lnTo>
                <a:lnTo>
                  <a:pt x="7301" y="13600"/>
                </a:lnTo>
                <a:cubicBezTo>
                  <a:pt x="7301" y="14523"/>
                  <a:pt x="8102" y="15254"/>
                  <a:pt x="9138" y="15254"/>
                </a:cubicBezTo>
                <a:lnTo>
                  <a:pt x="10800" y="15254"/>
                </a:lnTo>
                <a:cubicBezTo>
                  <a:pt x="11836" y="15254"/>
                  <a:pt x="12636" y="14523"/>
                  <a:pt x="12636" y="13600"/>
                </a:cubicBezTo>
                <a:lnTo>
                  <a:pt x="12636" y="8265"/>
                </a:lnTo>
                <a:lnTo>
                  <a:pt x="10800" y="8265"/>
                </a:lnTo>
                <a:lnTo>
                  <a:pt x="14308" y="4757"/>
                </a:lnTo>
                <a:lnTo>
                  <a:pt x="17981" y="8265"/>
                </a:lnTo>
                <a:lnTo>
                  <a:pt x="16144" y="8265"/>
                </a:lnTo>
                <a:lnTo>
                  <a:pt x="16144" y="13600"/>
                </a:lnTo>
                <a:cubicBezTo>
                  <a:pt x="16144" y="16368"/>
                  <a:pt x="13568" y="18927"/>
                  <a:pt x="10800" y="18927"/>
                </a:cubicBezTo>
                <a:lnTo>
                  <a:pt x="9138" y="18927"/>
                </a:lnTo>
                <a:cubicBezTo>
                  <a:pt x="6370" y="18927"/>
                  <a:pt x="3794" y="16368"/>
                  <a:pt x="3794" y="1360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25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Presidential election of 1912 the candi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idered least pleasing to reformers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4800600" y="5486400"/>
            <a:ext cx="3505320" cy="762120"/>
            <a:chOff x="4800600" y="5486400"/>
            <a:chExt cx="3505320" cy="762120"/>
          </a:xfrm>
        </p:grpSpPr>
        <p:sp>
          <p:nvSpPr>
            <p:cNvPr id="553" name=""/>
            <p:cNvSpPr/>
            <p:nvPr/>
          </p:nvSpPr>
          <p:spPr>
            <a:xfrm>
              <a:off x="4800600" y="57150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6920" y="5486400"/>
              <a:ext cx="3429000" cy="7621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00600" y="56386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5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muckrakers expose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ruption in govern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pton Sincl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a M. Tarb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coln Steff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wis 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5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muckrakers expose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ruption in govern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pton Sincl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>
            <a:hlinkClick r:id="rId2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coln Steff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was the primary motivation for the pa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Sixteenth Amend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ace revenue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lower tarif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b th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corpo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duce the 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tween the rich and p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erate funds to pay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ture w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was the primary motivation for the pa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Sixteenth Amend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ace revenue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lower tarif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b th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corpo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 Million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rogressives regarded all of the foll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worthy goals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moting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lf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ing econo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stering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moting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nopo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 Million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rogressives regarded all of the foll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worthy goals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ing econo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moting 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nopo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457200"/>
            <a:ext cx="8458200" cy="3352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640" y="1523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ll on any studen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000680" y="4572000"/>
            <a:ext cx="1143000" cy="13716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371600"/>
              <a:gd name="textAreaBottom" fmla="*/ 1297800 h 1371600"/>
            </a:gdLst>
            <a:ahLst/>
            <a:rect l="textAreaLeft" t="textAreaTop" r="textAreaRight" b="textAreaBottom"/>
            <a:pathLst>
              <a:path w="21600" h="25919">
                <a:moveTo>
                  <a:pt x="0" y="0"/>
                </a:moveTo>
                <a:lnTo>
                  <a:pt x="21600" y="0"/>
                </a:lnTo>
                <a:lnTo>
                  <a:pt x="21600" y="25919"/>
                </a:lnTo>
                <a:lnTo>
                  <a:pt x="0" y="25919"/>
                </a:lnTo>
                <a:close/>
              </a:path>
              <a:path fill="lightenLess" w="21600" h="25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9">
                <a:moveTo>
                  <a:pt x="21600" y="0"/>
                </a:moveTo>
                <a:lnTo>
                  <a:pt x="21600" y="25919"/>
                </a:lnTo>
                <a:lnTo>
                  <a:pt x="20200" y="24519"/>
                </a:lnTo>
                <a:lnTo>
                  <a:pt x="20200" y="1400"/>
                </a:lnTo>
                <a:close/>
              </a:path>
              <a:path fill="darkenLess" w="21600" h="25919">
                <a:moveTo>
                  <a:pt x="21600" y="25919"/>
                </a:moveTo>
                <a:lnTo>
                  <a:pt x="0" y="25919"/>
                </a:lnTo>
                <a:lnTo>
                  <a:pt x="1400" y="24519"/>
                </a:lnTo>
                <a:lnTo>
                  <a:pt x="20200" y="24519"/>
                </a:lnTo>
                <a:close/>
              </a:path>
              <a:path fill="lighten" w="21600" h="25919">
                <a:moveTo>
                  <a:pt x="0" y="25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9"/>
                </a:lnTo>
                <a:close/>
              </a:path>
              <a:path fill="darken" w="21600" h="25919">
                <a:moveTo>
                  <a:pt x="10800" y="169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19">
                <a:moveTo>
                  <a:pt x="11905" y="16441"/>
                </a:moveTo>
                <a:lnTo>
                  <a:pt x="11905" y="14482"/>
                </a:lnTo>
                <a:cubicBezTo>
                  <a:pt x="11905" y="13656"/>
                  <a:pt x="12236" y="12959"/>
                  <a:pt x="12837" y="12959"/>
                </a:cubicBezTo>
                <a:cubicBezTo>
                  <a:pt x="13968" y="12959"/>
                  <a:pt x="14865" y="11593"/>
                  <a:pt x="14865" y="10009"/>
                </a:cubicBezTo>
                <a:cubicBezTo>
                  <a:pt x="14865" y="7694"/>
                  <a:pt x="13011" y="5953"/>
                  <a:pt x="10800" y="5953"/>
                </a:cubicBezTo>
                <a:cubicBezTo>
                  <a:pt x="8589" y="5953"/>
                  <a:pt x="6918" y="7694"/>
                  <a:pt x="6918" y="10009"/>
                </a:cubicBezTo>
                <a:lnTo>
                  <a:pt x="8772" y="10009"/>
                </a:lnTo>
                <a:cubicBezTo>
                  <a:pt x="8772" y="8869"/>
                  <a:pt x="9695" y="7981"/>
                  <a:pt x="10800" y="7981"/>
                </a:cubicBezTo>
                <a:cubicBezTo>
                  <a:pt x="11905" y="7981"/>
                  <a:pt x="12837" y="8869"/>
                  <a:pt x="12837" y="10009"/>
                </a:cubicBezTo>
                <a:cubicBezTo>
                  <a:pt x="12837" y="10749"/>
                  <a:pt x="12367" y="11480"/>
                  <a:pt x="11905" y="11480"/>
                </a:cubicBezTo>
                <a:cubicBezTo>
                  <a:pt x="10800" y="11480"/>
                  <a:pt x="9695" y="12959"/>
                  <a:pt x="9695" y="14482"/>
                </a:cubicBezTo>
                <a:lnTo>
                  <a:pt x="9695" y="1644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304920"/>
            <a:ext cx="8534160" cy="3352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1430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sk The Audienc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4000680" y="4572000"/>
            <a:ext cx="1143000" cy="13716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371600"/>
              <a:gd name="textAreaBottom" fmla="*/ 1297800 h 1371600"/>
            </a:gdLst>
            <a:ahLst/>
            <a:rect l="textAreaLeft" t="textAreaTop" r="textAreaRight" b="textAreaBottom"/>
            <a:pathLst>
              <a:path w="21600" h="25919">
                <a:moveTo>
                  <a:pt x="0" y="0"/>
                </a:moveTo>
                <a:lnTo>
                  <a:pt x="21600" y="0"/>
                </a:lnTo>
                <a:lnTo>
                  <a:pt x="21600" y="25919"/>
                </a:lnTo>
                <a:lnTo>
                  <a:pt x="0" y="25919"/>
                </a:lnTo>
                <a:close/>
              </a:path>
              <a:path fill="lightenLess" w="21600" h="25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9">
                <a:moveTo>
                  <a:pt x="21600" y="0"/>
                </a:moveTo>
                <a:lnTo>
                  <a:pt x="21600" y="25919"/>
                </a:lnTo>
                <a:lnTo>
                  <a:pt x="20200" y="24519"/>
                </a:lnTo>
                <a:lnTo>
                  <a:pt x="20200" y="1400"/>
                </a:lnTo>
                <a:close/>
              </a:path>
              <a:path fill="darkenLess" w="21600" h="25919">
                <a:moveTo>
                  <a:pt x="21600" y="25919"/>
                </a:moveTo>
                <a:lnTo>
                  <a:pt x="0" y="25919"/>
                </a:lnTo>
                <a:lnTo>
                  <a:pt x="1400" y="24519"/>
                </a:lnTo>
                <a:lnTo>
                  <a:pt x="20200" y="24519"/>
                </a:lnTo>
                <a:close/>
              </a:path>
              <a:path fill="lighten" w="21600" h="25919">
                <a:moveTo>
                  <a:pt x="0" y="25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9"/>
                </a:lnTo>
                <a:close/>
              </a:path>
              <a:path fill="darken" w="21600" h="25919">
                <a:moveTo>
                  <a:pt x="10800" y="169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19">
                <a:moveTo>
                  <a:pt x="11905" y="16441"/>
                </a:moveTo>
                <a:lnTo>
                  <a:pt x="11905" y="14482"/>
                </a:lnTo>
                <a:cubicBezTo>
                  <a:pt x="11905" y="13656"/>
                  <a:pt x="12236" y="12959"/>
                  <a:pt x="12837" y="12959"/>
                </a:cubicBezTo>
                <a:cubicBezTo>
                  <a:pt x="13968" y="12959"/>
                  <a:pt x="14865" y="11593"/>
                  <a:pt x="14865" y="10009"/>
                </a:cubicBezTo>
                <a:cubicBezTo>
                  <a:pt x="14865" y="7694"/>
                  <a:pt x="13011" y="5953"/>
                  <a:pt x="10800" y="5953"/>
                </a:cubicBezTo>
                <a:cubicBezTo>
                  <a:pt x="8589" y="5953"/>
                  <a:pt x="6918" y="7694"/>
                  <a:pt x="6918" y="10009"/>
                </a:cubicBezTo>
                <a:lnTo>
                  <a:pt x="8772" y="10009"/>
                </a:lnTo>
                <a:cubicBezTo>
                  <a:pt x="8772" y="8869"/>
                  <a:pt x="9695" y="7981"/>
                  <a:pt x="10800" y="7981"/>
                </a:cubicBezTo>
                <a:cubicBezTo>
                  <a:pt x="11905" y="7981"/>
                  <a:pt x="12837" y="8869"/>
                  <a:pt x="12837" y="10009"/>
                </a:cubicBezTo>
                <a:cubicBezTo>
                  <a:pt x="12837" y="10749"/>
                  <a:pt x="12367" y="11480"/>
                  <a:pt x="11905" y="11480"/>
                </a:cubicBezTo>
                <a:cubicBezTo>
                  <a:pt x="10800" y="11480"/>
                  <a:pt x="9695" y="12959"/>
                  <a:pt x="9695" y="14482"/>
                </a:cubicBezTo>
                <a:lnTo>
                  <a:pt x="9695" y="1644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28600"/>
            <a:ext cx="8229600" cy="5181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609480"/>
            <a:ext cx="76197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now 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ILLIONAI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UDEN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mw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bmsfx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1447920"/>
            <a:ext cx="8534520" cy="2168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at’s right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o to th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NEXT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 ques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bmsfx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8153640" cy="312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s that you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nal Answer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4000680" y="4572000"/>
            <a:ext cx="1143000" cy="13716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371600"/>
              <a:gd name="textAreaBottom" fmla="*/ 1297800 h 1371600"/>
            </a:gdLst>
            <a:ahLst/>
            <a:rect l="textAreaLeft" t="textAreaTop" r="textAreaRight" b="textAreaBottom"/>
            <a:pathLst>
              <a:path w="21600" h="25919">
                <a:moveTo>
                  <a:pt x="0" y="0"/>
                </a:moveTo>
                <a:lnTo>
                  <a:pt x="21600" y="0"/>
                </a:lnTo>
                <a:lnTo>
                  <a:pt x="21600" y="25919"/>
                </a:lnTo>
                <a:lnTo>
                  <a:pt x="0" y="25919"/>
                </a:lnTo>
                <a:close/>
              </a:path>
              <a:path fill="lightenLess" w="21600" h="25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9">
                <a:moveTo>
                  <a:pt x="21600" y="0"/>
                </a:moveTo>
                <a:lnTo>
                  <a:pt x="21600" y="25919"/>
                </a:lnTo>
                <a:lnTo>
                  <a:pt x="20200" y="24519"/>
                </a:lnTo>
                <a:lnTo>
                  <a:pt x="20200" y="1400"/>
                </a:lnTo>
                <a:close/>
              </a:path>
              <a:path fill="darkenLess" w="21600" h="25919">
                <a:moveTo>
                  <a:pt x="21600" y="25919"/>
                </a:moveTo>
                <a:lnTo>
                  <a:pt x="0" y="25919"/>
                </a:lnTo>
                <a:lnTo>
                  <a:pt x="1400" y="24519"/>
                </a:lnTo>
                <a:lnTo>
                  <a:pt x="20200" y="24519"/>
                </a:lnTo>
                <a:close/>
              </a:path>
              <a:path fill="lighten" w="21600" h="25919">
                <a:moveTo>
                  <a:pt x="0" y="25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9"/>
                </a:lnTo>
                <a:close/>
              </a:path>
              <a:path fill="darken" w="21600" h="25919">
                <a:moveTo>
                  <a:pt x="10800" y="169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19">
                <a:moveTo>
                  <a:pt x="11905" y="16441"/>
                </a:moveTo>
                <a:lnTo>
                  <a:pt x="11905" y="14482"/>
                </a:lnTo>
                <a:cubicBezTo>
                  <a:pt x="11905" y="13656"/>
                  <a:pt x="12236" y="12959"/>
                  <a:pt x="12837" y="12959"/>
                </a:cubicBezTo>
                <a:cubicBezTo>
                  <a:pt x="13968" y="12959"/>
                  <a:pt x="14865" y="11593"/>
                  <a:pt x="14865" y="10009"/>
                </a:cubicBezTo>
                <a:cubicBezTo>
                  <a:pt x="14865" y="7694"/>
                  <a:pt x="13011" y="5953"/>
                  <a:pt x="10800" y="5953"/>
                </a:cubicBezTo>
                <a:cubicBezTo>
                  <a:pt x="8589" y="5953"/>
                  <a:pt x="6918" y="7694"/>
                  <a:pt x="6918" y="10009"/>
                </a:cubicBezTo>
                <a:lnTo>
                  <a:pt x="8772" y="10009"/>
                </a:lnTo>
                <a:cubicBezTo>
                  <a:pt x="8772" y="8869"/>
                  <a:pt x="9695" y="7981"/>
                  <a:pt x="10800" y="7981"/>
                </a:cubicBezTo>
                <a:cubicBezTo>
                  <a:pt x="11905" y="7981"/>
                  <a:pt x="12837" y="8869"/>
                  <a:pt x="12837" y="10009"/>
                </a:cubicBezTo>
                <a:cubicBezTo>
                  <a:pt x="12837" y="10749"/>
                  <a:pt x="12367" y="11480"/>
                  <a:pt x="11905" y="11480"/>
                </a:cubicBezTo>
                <a:cubicBezTo>
                  <a:pt x="10800" y="11480"/>
                  <a:pt x="9695" y="12959"/>
                  <a:pt x="9695" y="14482"/>
                </a:cubicBezTo>
                <a:lnTo>
                  <a:pt x="9695" y="1644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bmfinal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krakers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ffragi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urna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tic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ervation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5T00:54:10Z</dcterms:created>
  <dc:creator>Cindy Robertson</dc:creator>
  <dc:description/>
  <dc:language>en-US</dc:language>
  <cp:lastModifiedBy>JDORMAN</cp:lastModifiedBy>
  <dcterms:modified xsi:type="dcterms:W3CDTF">2006-12-18T20:37:51Z</dcterms:modified>
  <cp:revision>225</cp:revision>
  <dc:subject/>
  <dc:title>PowerPoint Presentation</dc:title>
</cp:coreProperties>
</file>